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7CC1-4968-42D6-83E0-03D235CE7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5842-F34C-4055-B08C-4B15D1AE1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2793-F265-4A67-BC1A-6558D4EA6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69B3-CF99-466F-B266-80CF4B497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31F7-0E7E-47DD-A483-CEE51B640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1F54-079F-45C0-8B63-EECE77381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2641-5C44-41A8-B590-1C19B8AA9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A044-E3FD-4AAB-B198-F6555906C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6A4E-4F92-41FC-B5F3-25312A3E7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6FAD-FA8F-458C-808E-874029C2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1F7B-BA6B-40E5-83AA-4521A46B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2AE6-D3F4-4950-998A-D58E6408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2818A-DD20-44C6-A096-1D30E8F107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rshfield Dream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: Kiley Dindin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11/10/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5-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4038480" y="3124080"/>
            <a:ext cx="2286000" cy="1371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Kisses Mich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533520" y="685800"/>
            <a:ext cx="205740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cretly is crushing on Mich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609480" y="2133720"/>
            <a:ext cx="19814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angs out with her in a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609480" y="3276720"/>
            <a:ext cx="2057400" cy="1371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gins to think that she is cute and gets the feeling that she likes him al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609480" y="5257800"/>
            <a:ext cx="221004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tarts to hang out with her and likes her 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miley Face 6"/>
          <p:cNvSpPr/>
          <p:nvPr/>
        </p:nvSpPr>
        <p:spPr>
          <a:xfrm>
            <a:off x="7010280" y="1143000"/>
            <a:ext cx="1905120" cy="1676520"/>
          </a:xfrm>
          <a:prstGeom prst="smileyFace">
            <a:avLst>
              <a:gd name="adj" fmla="val 9282"/>
            </a:avLst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alph gets excited and does it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Straight Arrow Connector 8"/>
          <p:cNvCxnSpPr>
            <a:stCxn id="44" idx="3"/>
          </p:cNvCxnSpPr>
          <p:nvPr/>
        </p:nvCxnSpPr>
        <p:spPr>
          <a:xfrm>
            <a:off x="2590560" y="1257120"/>
            <a:ext cx="1448280" cy="2324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0" name="Straight Arrow Connector 10"/>
          <p:cNvCxnSpPr/>
          <p:nvPr/>
        </p:nvCxnSpPr>
        <p:spPr>
          <a:xfrm>
            <a:off x="2590560" y="2514240"/>
            <a:ext cx="1448280" cy="1220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" name="Straight Arrow Connector 15"/>
          <p:cNvCxnSpPr>
            <a:stCxn id="47" idx="3"/>
          </p:cNvCxnSpPr>
          <p:nvPr/>
        </p:nvCxnSpPr>
        <p:spPr>
          <a:xfrm flipV="1">
            <a:off x="2819520" y="4114080"/>
            <a:ext cx="1219680" cy="1715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" name="Straight Arrow Connector 23"/>
          <p:cNvCxnSpPr>
            <a:stCxn id="46" idx="3"/>
          </p:cNvCxnSpPr>
          <p:nvPr/>
        </p:nvCxnSpPr>
        <p:spPr>
          <a:xfrm>
            <a:off x="2666880" y="3962520"/>
            <a:ext cx="13723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3" name="Straight Arrow Connector 44"/>
          <p:cNvCxnSpPr>
            <a:stCxn id="43" idx="3"/>
            <a:endCxn id="48" idx="3"/>
          </p:cNvCxnSpPr>
          <p:nvPr/>
        </p:nvCxnSpPr>
        <p:spPr>
          <a:xfrm flipV="1">
            <a:off x="6324120" y="2572920"/>
            <a:ext cx="965880" cy="1236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4" name="Sun 46"/>
          <p:cNvSpPr/>
          <p:nvPr/>
        </p:nvSpPr>
        <p:spPr>
          <a:xfrm>
            <a:off x="7086600" y="3124080"/>
            <a:ext cx="1828800" cy="1828800"/>
          </a:xfrm>
          <a:prstGeom prst="sun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ichele likes him 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Straight Arrow Connector 16"/>
          <p:cNvCxnSpPr/>
          <p:nvPr/>
        </p:nvCxnSpPr>
        <p:spPr>
          <a:xfrm>
            <a:off x="6324120" y="3885840"/>
            <a:ext cx="762840" cy="229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18:01:39Z</dcterms:created>
  <dc:creator>ITSUser</dc:creator>
  <dc:description/>
  <dc:language>en-US</dc:language>
  <cp:lastModifiedBy>ITSUser</cp:lastModifiedBy>
  <dcterms:modified xsi:type="dcterms:W3CDTF">2009-11-19T17:47:52Z</dcterms:modified>
  <cp:revision>5</cp:revision>
  <dc:subject/>
  <dc:title>Marshfield Dreams </dc:title>
</cp:coreProperties>
</file>